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F2F9-5A41-43F2-B932-38424561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EA09-43A8-4C91-8EC1-29446425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C812-BFA2-4A60-AD03-A2539D42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7556-3750-4398-B4F2-A3AB301C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9E21-158B-4715-8DCB-98FD61BC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54B4-BDFC-4ACA-93BE-D49CBE33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6519-33BE-4C49-9EA6-F7DAEC7B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3272-B2CB-4427-9D41-53BC1987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DB2F-EE11-4401-A10A-B83B5676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85E9-EB72-4E14-8951-FF776DE8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D39F-EBCF-4ADC-B034-E4DABBC5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69DE-A514-45C1-83C3-E5E75F4F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0E1D-181C-4F64-A154-3DECFBA6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84A4-4A18-42D6-9927-7B8DF322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FCFF-E43D-40C7-99C3-73D6CFA9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B553-DDA5-4B25-95BF-4F1910A1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4ADE-962A-4CEF-A1D2-D73CCE82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BC146-D6D1-4A12-A78F-FFF82AE7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182D0-1C47-4AF8-9101-219285A4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7C76F-3040-4C30-914E-D6D69E12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45CB5-444C-4062-8668-A4776331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95746-C32B-4ADB-AE37-4E3353B7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8C7F-B886-49CB-8672-D36AC804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13F31-0EE0-462E-9B76-6232AFF3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1ABDB-946C-4046-81BB-AF4D71CD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FBD77-1156-4162-9308-45C5D863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5CCFE-CA49-4055-BFE7-30B25403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865B0-F27D-4977-830D-F08CF603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46832-FB2D-4C18-9980-8E6BA265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B2907-286F-4A53-9A57-B14A2873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F447E-212F-4701-B85C-A6225452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1354F-3EE6-4107-8CDD-6932F03E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8AAFE-8741-4E0F-AB2C-19C5D842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680D-067A-40BD-9417-B210B160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FD785-168F-41AA-93C0-2DA347DC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A7979-EBF5-4BD7-B440-2F0359F5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601B8-CF5F-4CD6-BE98-469EC159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A7886-8CA6-48D6-A1AB-AF62443D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A0703-8186-415C-9922-5443844B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DFCD0-E7FC-4816-81D6-0031FF55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B78DC-8CF9-4A3E-98A0-1CBF7232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1A757-02AC-4021-AB0E-CB390384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F2708-7C89-4B64-96D7-9EEE9A0F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751F3-8BB9-46FD-87B2-D5013D54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CB4-E93C-4005-BF76-B27833F6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AB7FF-6946-4D32-9C19-89BEA8C5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05F42-B149-4EBF-858E-E6F4E804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5A8CA-59E5-4B04-A153-A236FF74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94D87-3D55-4A2B-9D56-D104BC81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74EE0-7BF4-4FFA-A701-C36FBD8D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F90BF-B45E-4143-800F-EED92250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EBED8-7A75-4389-8771-BC91F110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B6532-1CDA-47F7-8B01-5DECE64E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D8FFB-2EDD-43A5-B2E8-A9840EE4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F5229-CE3E-4442-B5ED-3A9E7504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4FD3-1E79-4B4C-ADA3-233398C5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871AE-350E-4BF8-BB44-2D80078D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01B48-3AD5-4725-9142-95345436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3147B-932B-44D0-940F-E921CF4A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B98D9-99AA-486D-863A-C4B806B0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0ACED-47B0-48FE-8A6F-3B17408A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78718-F529-409C-84E0-C1AE3DB7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BE645-1F37-4EB0-BB06-6B6A915A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E42A6-AB9B-416B-A748-7CE8E551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00106-068E-4342-9621-9D2A3EC9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88C16-521C-421E-8BC7-B89F1BBC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E674-173C-4974-9006-94F458A1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13EB5-3654-4575-8EA7-4F91F1EC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3C0FE-BF38-4DB5-8379-F9F52840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765B3-F18A-41DD-9876-715106E8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467FA-90C1-40FA-8870-E0FE280F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7FEAE-9A0B-4127-BD63-32F5D007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3E0AC-FEA9-40D0-828B-2DF07291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B9F7C-8337-43E8-8E9D-D0D5456F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292A0-4FBD-4C63-A0D5-3DBB1A1B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F31FC-720A-44BA-BB0F-2948900E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DF521-7B76-455A-BD92-C0595F8E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46D8-8B2A-456A-AABC-DF9A7571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64004-DE82-4786-BDE1-89342950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A5581-9C04-4519-936A-6018C0B8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02846-910B-4BD4-862B-B2BE375B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FF73F-6EAF-4FA2-AC3A-716B87BF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9AF29-824D-487C-A0FE-BB3DA387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6FF4C-DFFD-450F-B6BC-B2BBE106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21E78-F4BD-4C96-84F7-74343A87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9A56B-A892-4C26-BD68-D7C1AB9F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F9E5D-2C89-45B4-8F14-617C5940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12D92-EA8D-4393-9E94-BE2AF072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2D55-040F-4A9C-8462-99CEB85E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D6159-4558-49E3-BD84-474EC725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BC86F-5FF8-4AEA-B393-7D9886D7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E61FB-7ABE-4FF3-8573-842772A4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4C7AB-9DC2-4935-A596-36831C00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D4266-A599-404D-A083-8144FB96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6FE4D-1756-4C23-A547-54EED617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34BC8-864E-4AEC-9578-A0B3B380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9EEA-36B3-48CC-950E-57BCDB77B6B5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7EDA-267D-4DA8-87A1-5D342F1B3847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4754-3968-4447-9C0C-CFDDDC98D35F}" type="slidenum">
              <a:rPr b="0" lang="en-GB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E296-07ED-4AF0-AFA7-4453AB6F65F4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F0F8-A61F-4F94-8765-CE4816791C61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F067-F4DE-4CB6-988D-615BA96A90B5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6D86-A415-49CE-A9CB-C5D0A452D843}" type="slidenum">
              <a:rPr b="0" lang="en-GB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6B73-74E4-471A-9133-AD18C0A78661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man Old Style"/>
              </a:rPr>
              <a:t>King Bill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Bookman Old Style"/>
              </a:rPr>
              <a:t>Edwin Morga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3" descr="BillyFullerlton1935.gif"/>
          <p:cNvPicPr/>
          <p:nvPr/>
        </p:nvPicPr>
        <p:blipFill>
          <a:blip r:embed="rId1"/>
          <a:stretch/>
        </p:blipFill>
        <p:spPr>
          <a:xfrm>
            <a:off x="1714680" y="571680"/>
            <a:ext cx="314316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Them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importance of understanding the pa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at poverty can breed violen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danger of ignorance about the beliefs of others (sectarianis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Hypocrisy of violence in defence of supposedly Christian belief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2560" y="152280"/>
            <a:ext cx="85438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464653"/>
                </a:solidFill>
                <a:latin typeface="Bookman Old Style"/>
              </a:rPr>
              <a:t>‘</a:t>
            </a:r>
            <a:r>
              <a:rPr b="0" lang="en-GB" sz="2900" spc="-1" strike="noStrike">
                <a:solidFill>
                  <a:srgbClr val="464653"/>
                </a:solidFill>
                <a:latin typeface="Bookman Old Style"/>
              </a:rPr>
              <a:t>...Wind rose / flaring the hissing leaves, the branches / swung heavy, across the lamps.’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ntribution to scene and mood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Weather worsen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flaring’ – spreading the leaves everywher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hissing’ – onomatopoeia / personification – sinister connotations – hissing usually threatening soun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Heavy branches – makes them sound imposing / intimidat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Light being obscured by the trees moving in the wind – spooky / gothic atmosphere – stormy graveyar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Enjambment – ‘the branches’ – effect of branches swaying in the wind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464653"/>
                </a:solidFill>
                <a:latin typeface="Bookman Old Style"/>
              </a:rPr>
              <a:t>‘</a:t>
            </a:r>
            <a:r>
              <a:rPr b="0" lang="en-GB" sz="2900" spc="-1" strike="noStrike">
                <a:solidFill>
                  <a:srgbClr val="464653"/>
                </a:solidFill>
                <a:latin typeface="Bookman Old Style"/>
              </a:rPr>
              <a:t>Gravestones huddled in drizzling shadow’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0040" y="214308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ntribution to scene and mood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gravestones huddled’ – suggests weather so bad, they need to huddle together for shelter (personification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rizzling shadow’ – refers to rain and darkness – adds to spooky / sinister atmospher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464653"/>
                </a:solidFill>
                <a:latin typeface="Bookman Old Style"/>
              </a:rPr>
              <a:t>How structure of first 4 lines in second verse adds solemn dignity to the scene: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 long sentence, which lists the various descriptive details of the funeral procession. Creates a slow rhythm which reflects the a slow respectful funeral march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Use of colon in line 4 to introduce elaboration – King Billy of Brigton has been introduced and now we are going to find out more about him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464653"/>
                </a:solidFill>
                <a:latin typeface="Bookman Old Style"/>
              </a:rPr>
              <a:t>How the poet conveys the poverty and violence of King Billy’s background. 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Gill Sans MT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brooding days of empty bellies’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billiard smoke and sour pint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bad times / of idleness and boredom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Gill Sans MT"/>
              </a:rPr>
              <a:t>Viole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boots and fists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herrickings’ – public argument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e scuffle, the flash, the shout / bloody crumpling...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bricks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mbush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azors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Structure of lines 19-24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28760" y="249984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Long list of endless violenc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Quick listing – speed arguments turned into violenc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petition – it was ongo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ntrast – Billy Boys v. Conks – power shif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464653"/>
                </a:solidFill>
                <a:latin typeface="Bookman Old Style"/>
              </a:rPr>
              <a:t>‘</a:t>
            </a:r>
            <a:r>
              <a:rPr b="0" lang="en-GB" sz="2900" spc="-1" strike="noStrike">
                <a:solidFill>
                  <a:srgbClr val="464653"/>
                </a:solidFill>
                <a:latin typeface="Bookman Old Style"/>
              </a:rPr>
              <a:t>Sillitoe scuffs the razors down the stank’.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28760" y="171468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n effective metaphor – comparing Chief Constable’s success in breaking down the power of the razor gangs to him kicking their razors down drai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uggests he was personally responsible for eradicating the violenc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mage of razors being washed down drain – into sewers where they belo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tank’ – Glasgow word – sense of place (as if this is a Glaswegian telling us what he did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Social comment in lines 28-29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Lines imply that the violence was born out of the poverty of the time. People had nothing better to do with themselves (‘idleness and boredom’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How sympathy is aroused for King Billy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illy Fullerton was born into poverty and a bad time, and this did not hold him back – he offered hope to some disaffected people in Glasgow at the tim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However,  he was soon forgotten by the people as their circumstances improv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He ended up forgotten and alone – he used to be a legendary figure (contrast of his lonely death / busy funeral attended by hundreds of mourners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464653"/>
                </a:solidFill>
                <a:latin typeface="Bookman Old Style"/>
              </a:rPr>
              <a:t>‘</a:t>
            </a:r>
            <a:r>
              <a:rPr b="0" lang="en-GB" sz="2900" spc="-1" strike="noStrike">
                <a:solidFill>
                  <a:srgbClr val="464653"/>
                </a:solidFill>
                <a:latin typeface="Bookman Old Style"/>
              </a:rPr>
              <a:t>...the flutes / threw ‘Onward Christian Soldiers’ to the winds / from unironic lips...’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t is ironic that a Christian song is playing at the funeral of someone who was very un-Christian in his actions (a violent murderer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However, much of the violence was born out of religious differences – Catholic v. Protestan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mourners do not realise the irony – they are unaware of the discrepancy in what they are do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Group Task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Who was Billy Fullerton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What is sectarianism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What is a “Billy Boy”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 your groups answer the questions and find out as much as you can about Billy Fullert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464653"/>
                </a:solidFill>
                <a:latin typeface="Bookman Old Style"/>
              </a:rPr>
              <a:t>Language used to give sense of time and place: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im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o Our Leader of Thirty Years Ag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ad tim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ferences to the gangs / poverty / events of the tim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la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ferences to Riddrie / Brigton / Bridgeton Cro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Gangs / characters  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scriptive setting at beginning.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Today’s Lesson</a:t>
            </a: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Gill Sans MT"/>
              </a:rPr>
              <a:t>Complete annotation of the poem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Gill Sans MT"/>
              </a:rPr>
              <a:t>Work on techniques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Gill Sans MT"/>
              </a:rPr>
              <a:t>Look at the essay question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ssay Question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7. Choose a poem which deals with an important issue such as war, crime, poverty or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racism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lain how the poet deepens your understanding of the issue by the choice of content and the skilful use of poetic techniqu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9" name="Picture 3" descr="C:\Documents and Settings\barnardz-s\Local Settings\Temporary Internet Files\Content.IE5\PZIQ5YI3\MC900423173[1].wmf"/>
          <p:cNvPicPr/>
          <p:nvPr/>
        </p:nvPicPr>
        <p:blipFill>
          <a:blip r:embed="rId1"/>
          <a:stretch/>
        </p:blipFill>
        <p:spPr>
          <a:xfrm>
            <a:off x="6516720" y="4365720"/>
            <a:ext cx="182736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What is in a title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Gill Sans MT"/>
              </a:rPr>
              <a:t>King Billy </a:t>
            </a:r>
            <a:endParaRPr b="0" lang="en-US" sz="9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Form and Structure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219320"/>
            <a:ext cx="82296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e poem is in 4 stanzas and 29 lines of blank ver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e narrative style of the poem uses third person narration. The persona is a third person omniscient narrator (they have a god-like overview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e poem’s tone is sombre and serious, and also reflective of the pas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e enjambment used slows the rate of the poem and emphasises its reflective tone.  The only use of caesura at the end of “dying alone in Bridgeton in a box bed.” is used to highlight Billy Fullarton’s literal death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Structur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poem can be structured as follow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tanza 1 – The graveyar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tanza 2 – The flashback to the old Bridget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tanza 3 – The memories of Billy/his funeral and legac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tanza 4 – The final reflection – the twist.  Not damning Billy Fullarton as expected, but the lack of understanding between peopl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ictures of Glasgow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4" name="Content Placeholder 3" descr="Men_Should_Weep-1-200-200-85-crop.jpg"/>
          <p:cNvPicPr/>
          <p:nvPr/>
        </p:nvPicPr>
        <p:blipFill>
          <a:blip r:embed="rId1"/>
          <a:stretch/>
        </p:blipFill>
        <p:spPr>
          <a:xfrm>
            <a:off x="6084720" y="1413000"/>
            <a:ext cx="2679840" cy="2681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442px-Umbrellabridgton.jpg"/>
          <p:cNvPicPr/>
          <p:nvPr/>
        </p:nvPicPr>
        <p:blipFill>
          <a:blip r:embed="rId2"/>
          <a:stretch/>
        </p:blipFill>
        <p:spPr>
          <a:xfrm>
            <a:off x="0" y="1268280"/>
            <a:ext cx="2689200" cy="3645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800px-Orange_Parade_in_Larkhall,_Scotland.jpg"/>
          <p:cNvPicPr/>
          <p:nvPr/>
        </p:nvPicPr>
        <p:blipFill>
          <a:blip r:embed="rId3"/>
          <a:stretch/>
        </p:blipFill>
        <p:spPr>
          <a:xfrm>
            <a:off x="2916360" y="4005360"/>
            <a:ext cx="352728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Billy Fullert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Led a gang the “Billy Boys” famous for violence in Bridgeton, East End of Glasgow in the 1930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ssociated with Scottish Protestantism, Unionism and sectarianis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spite his legacy as a folk hero to some, he died alone in Bridgeton where everyday his gang would sing the national anthem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round 1000 people followed his funeral procession in Glasgow on its journey to Riddrie cemetery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Today’s Less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ntinued notes on BF and structur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Questions on the poem to be completed and answered as a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egin annotation of the poem in pairs – using glossar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‘</a:t>
            </a: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Grey over Riddrie the clouds piled up / dragged their rain through the cemetery trees.’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2071800"/>
            <a:ext cx="82296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ntribution to scene and mood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etting introduced – ‘Riddrie’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Uses personification – the clouds ‘dragged’ their rain. Suggests they’re heavy with rai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uggests dull, dreary atmosphere – lots of grey clouds and penetrating rai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emetery’ – idea of death / mourning introduc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6:54:34Z</dcterms:created>
  <dc:creator>Portree High School</dc:creator>
  <dc:description/>
  <dc:language>en-US</dc:language>
  <cp:lastModifiedBy>Your User Name</cp:lastModifiedBy>
  <dcterms:modified xsi:type="dcterms:W3CDTF">2011-11-02T14:27:10Z</dcterms:modified>
  <cp:revision>11</cp:revision>
  <dc:subject/>
  <dc:title>King Billy</dc:title>
</cp:coreProperties>
</file>